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0E1A-691A-476A-99A6-408A37D015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EB7-998B-4990-A9DE-DD8DC75F920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D4D-5D68-4F16-A89F-3FBB8F4A2BB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에 의한 자동화가 인간을 직장에서 밀어낸다는 생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부터 퍼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242-988D-4BB1-BB1F-1A8E7D0AC00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51E-92AE-450C-8EC5-B8163B9FEEF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g Blu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라고도 불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단 사용자를 자신의 기계를 사게 만들어서 시장점유율을 올려 놓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다음부터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사용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환성의 문제 때문에 다른 기계로 옮기기 어려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최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취한 전략과 동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0FBC-42F2-4596-A00D-B57AA7E1601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당시 컴퓨터 시장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80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상 독차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IBM 1400, 140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초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,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 가량 판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학자와 기업가를 모두 만족시키겠다는 야심으로 저사양부터 고사양까지 다양한 사양을 갖춘 비교적 합리적인 가격의 시리즈 제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환성과 유연성에 초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리프로그래밍 없이 간단하게 더 좋은 사양으로 교체 가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OS/360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전에도 시장점유율 매우 높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3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확실히 굳히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만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라는 투자금 모두 회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의 사진은 폭스바겐에 설치된 기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아메리카 항공에 온라인 업무처리용 컴퓨터 납품하여 온라인 좌석 예약이 가능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B5AA-9F56-47E5-9EE1-085F0E0171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538-9C76-4E15-8D0C-60238291B2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F6B-B8B6-4F17-A5C7-79D6BD220A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232-1929-41DF-AC8A-0ED58D9E07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E0A-664B-49C3-B73F-2DE28B85CE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C0B7-3331-49C7-9474-D11662987C9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5753-F780-47F7-B82A-EA41C9247C7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482-6FC0-4A5B-A4A2-0D6D2EFC85D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8FEF-E6AC-46C2-984A-AB794F91C8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E91-C780-449B-A179-90B92D6EC2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802-EC6E-4366-92C3-FD56EFA08AE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604-F8D4-48E5-8432-256122E36D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니악과 같은 성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3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트랜지스터 들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참고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인텔 코어 프로세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만개의 트랜지스터 들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회로의 전선두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㎛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 인텔 마이크로프로세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5 or 32 nm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103-411F-400C-BDBC-9269C979B81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929-8C8E-456B-9FDB-04C1FFEECF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자계산기의 소형화 경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너무 복잡한 회로 설계 때문에 일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SI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회사들의 거절로 결국 미국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의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sic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소형 전자계산기를 포함한 저사양 컴퓨터용으로 만들기로 합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인프레임이나 슈퍼컴퓨터용이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73A-A60B-430F-BF87-D32AF628D36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C9B-EBE3-40BF-AAC1-BCD33CBCA23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4236-3EDF-4108-98BC-B5EF827DF5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4F1-3145-484B-87FF-CFF683D730E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원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emor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칩을 컴퓨터 회사에 납품하는 것이 주수입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PU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칩 소매 전략을 제대로 잡지 못하고 있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칩 가격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러에 책정했는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d Robert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그것을 구입해 저가 컴퓨터를 만드는 데 사용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ll Gate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ul Alle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메일을 보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ltair BASI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97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부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작품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icrosof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첫 작품이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74E-FDC8-46E9-A2A8-3EE502A3BD9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0D5-500C-4B7C-8DE8-9A825E4623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6F11-7D5E-4142-80F4-95E39E3121F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1A5-A9ED-4B84-B101-B9F1E3F99E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E8D-A124-427D-A9A8-1B6DB8E36E0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 해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꿈의 기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비 출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654F-835A-4E42-9D66-5748B81D1E0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FA84-0F4E-45FB-B86E-375D107E0C9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애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티브 잡스 부모집의 차고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A38-F492-425D-9798-D8A1535264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8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애플의 매출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 돌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icrosof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e BASI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B5B-AD8E-459C-89EF-8343CE716AE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297-BE59-4B27-B4A8-6425BD7913F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B96F-A7BE-4A2F-85AA-F7FB6D29652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 운동가 및 아마추어 그룹의 이상은 저항에 직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곧바로 자본주의 시장에 편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2A8F-9373-414E-BF36-92FA72DEFE5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26E-F38D-49B7-998A-63E1695E77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C25-833A-4B3E-914B-1CA0CCC5721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E3D-74BE-4B2B-BEA4-23C43550E6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D38-A5E9-49E1-B032-4D7C2BBC9F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DE07-18F7-4840-AF89-469DA0C16D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7D5-C8B3-4C09-BD00-8AFD45386A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amp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클리 회사가 레밍턴랜드로 넘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루덴셜 생명보험사는 비싸서 계약 취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CB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대통령 선거 예측용으로 구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표본만으로 아이젠하우어의 승리 정확히 예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D0C-872B-4BDA-A2E1-A0E7238AA11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53AD-DF4D-4F38-96B0-0D4C69EF613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E92-9BB9-48F2-88AD-CE15B26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5D8-ED1F-43E1-B47E-F1A43F1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C34-0E62-4877-925B-CEC0A224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F6D-B691-4412-B5A9-02D9E307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4E6-8712-4DD3-A3A2-D72CEC9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CD2-5A2C-4499-9931-06C46584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47A-00D6-4B2D-8463-E1A86BB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493-592A-43F6-A3E4-B85C58D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3FB-A241-4046-9E80-F41A19E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BAF-8082-4F80-AAC6-C8261F0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808-B417-42D6-9318-6AB90E8F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FF2-52EA-4234-94B4-1EEC49E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96B3-6E6C-4458-9BF2-25B105EFBDB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YecfV3ubP8" TargetMode="External"/><Relationship Id="rId2" Type="http://schemas.openxmlformats.org/officeDocument/2006/relationships/hyperlink" Target="http://www.youtube.com/watch?v=OYecfV3ubP8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는 어떻게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집안에 들어오게 되었을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2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초기 컴퓨터의 이미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수치제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NC)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작기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MIT-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-GE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합작 개발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를 이용한 공장 자동화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숙련노동자의 공작기계 사용을 컴퓨터 프로그램으로 대체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SAGE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프로젝트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-MIT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합작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 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미국 전역의 레이더망과 공군기지를 실시간 연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를 그 중심에 있는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MIT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의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Whirlwind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컴퓨터가 감시하고 자동으로 통제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인간이 배제된 프로그램화된 기계에 의해 통제되는 세계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심지어 인간 세계조차 프로그램화된 전략적 행위자들 사이의 네트워크로 이해 </a:t>
            </a:r>
            <a:r>
              <a:rPr b="1" lang="en-US" sz="3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게임이론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사이버네트워크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41920" y="2923920"/>
            <a:ext cx="317808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주 노동시간 단축으로 자동화에 의한 해고에 맞서자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(1950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년대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2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74" name="Picture 4" descr="automation"/>
          <p:cNvPicPr/>
          <p:nvPr/>
        </p:nvPicPr>
        <p:blipFill>
          <a:blip r:embed="rId1"/>
          <a:stretch/>
        </p:blipFill>
        <p:spPr>
          <a:xfrm>
            <a:off x="539640" y="189000"/>
            <a:ext cx="49118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1960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년대 컴퓨터 발전의 두 방향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정부 및 기업용 메인프레임과 과학기술용 슈퍼컴퓨터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컴퓨터 업계의 거인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IBM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차 세계대전 이전 회계 및 통계용 기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일종의 기계식 컴퓨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제조 판매 회사에서 뒤늦게 전자컴퓨터 업계에 진입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거대한 자본력과 판매망으로 순식간에 시장 장악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9" name="Picture 2" descr="http://upload.wikimedia.org/wikipedia/commons/thumb/5/51/IBM_logo.svg/250px-IBM_logo.svg.png"/>
          <p:cNvPicPr/>
          <p:nvPr/>
        </p:nvPicPr>
        <p:blipFill>
          <a:blip r:embed="rId1"/>
          <a:stretch/>
        </p:blipFill>
        <p:spPr>
          <a:xfrm>
            <a:off x="2268360" y="549360"/>
            <a:ext cx="45356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ile:DM IBM S360.jpg"/>
          <p:cNvPicPr/>
          <p:nvPr/>
        </p:nvPicPr>
        <p:blipFill>
          <a:blip r:embed="rId1"/>
          <a:stretch/>
        </p:blipFill>
        <p:spPr>
          <a:xfrm>
            <a:off x="0" y="287280"/>
            <a:ext cx="9145440" cy="609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56000" y="5157720"/>
            <a:ext cx="4788000" cy="1224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시스템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/360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시리즈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64)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과학자와 기업가를 모두 만족시키겠다는 야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2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만에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0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억 달러 투자금 회수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 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www.computermuseum.li/Testpage/Cray-1-Supercomputer-1976.gif"/>
          <p:cNvPicPr/>
          <p:nvPr/>
        </p:nvPicPr>
        <p:blipFill>
          <a:blip r:embed="rId2"/>
          <a:stretch/>
        </p:blipFill>
        <p:spPr>
          <a:xfrm>
            <a:off x="0" y="836640"/>
            <a:ext cx="6021360" cy="602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e first fully-integrated sofaputer"/>
          <p:cNvPicPr/>
          <p:nvPr/>
        </p:nvPicPr>
        <p:blipFill>
          <a:blip r:embed="rId3"/>
          <a:stretch/>
        </p:blipFill>
        <p:spPr>
          <a:xfrm>
            <a:off x="250920" y="765000"/>
            <a:ext cx="5402160" cy="609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720" y="1988640"/>
            <a:ext cx="4643280" cy="1008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CRAY-1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슈퍼컴퓨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6)</a:t>
            </a:r>
            <a:br>
              <a:rPr sz="25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계산에 있어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BM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수백배 성능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저가상품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‘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미니컴퓨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’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수천만 원 정도로 저렴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연구실에 바로 배치 가능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DE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PDP-8 (1965)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0,000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대 이상 판매된 인기 모델</a:t>
            </a:r>
            <a:endParaRPr b="0" lang="en-US" sz="2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65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만 달러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7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6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천 달러</a:t>
            </a:r>
            <a:endParaRPr b="0" lang="en-US" sz="20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8" name="Picture 2" descr="File:PDP-8.jpg"/>
          <p:cNvPicPr/>
          <p:nvPr/>
        </p:nvPicPr>
        <p:blipFill>
          <a:blip r:embed="rId1"/>
          <a:stretch/>
        </p:blipFill>
        <p:spPr>
          <a:xfrm>
            <a:off x="4967280" y="1557360"/>
            <a:ext cx="37465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OS vs.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응용 프로그램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컴퓨터를 이용하기 위해 기본적으로 필요한 기능을 갖춘 소프트웨어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OS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입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/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출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파일 관리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스케줄링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GUI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등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컴퓨터를 보다 쉽게 사용하기 위해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1960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년대 미국방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ARPA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에서 자금을 지원한 연구 프로젝트에서 타임 쉐어링 기법 등 수많은 아이디어 배출 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후 여러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OS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가 출현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UNIX(GE-MIT-Bell lab &amp;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국방부 지원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Linux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리누스 토발즈 및 수많은 프로그래머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, MS-DOS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Windows(Microsoft), Mac &amp; iOS(Apple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반도체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혁명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437000"/>
            <a:ext cx="2952720" cy="1440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트랜지스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47)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윌리엄 쇼클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존 바딘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월터 브래튼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AT&amp;T Bell Lab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4" name="Picture 2" descr="http://postfiles11.naver.net/20110101_10/dounna_1293864290304LNSGT_GIF/transistor.gif?type=w3"/>
          <p:cNvPicPr/>
          <p:nvPr/>
        </p:nvPicPr>
        <p:blipFill>
          <a:blip r:embed="rId1"/>
          <a:stretch/>
        </p:blipFill>
        <p:spPr>
          <a:xfrm>
            <a:off x="3492360" y="549360"/>
            <a:ext cx="5327640" cy="532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ds16.egloos.com/pds/200909/21/41/d0097441_4ab78d00a7c2f.png"/>
          <p:cNvPicPr/>
          <p:nvPr/>
        </p:nvPicPr>
        <p:blipFill>
          <a:blip r:embed="rId2"/>
          <a:srcRect l="48643" t="-8462" r="-3419" b="-8462"/>
          <a:stretch/>
        </p:blipFill>
        <p:spPr>
          <a:xfrm>
            <a:off x="468360" y="549360"/>
            <a:ext cx="2867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ENIAC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5660640"/>
            <a:ext cx="3456000" cy="64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ENIAC (1946)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349360"/>
            <a:ext cx="777240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반도체로 모든 부품을 만들 수 있다면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개개의 부품을 하나의 판 위에 늘어놓고 연결하는 것이 아니라 처음부터 하나의 반도체 위에 만드는 것이 간단하지 않은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”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File:Kilby solid circuit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02280" y="5445000"/>
            <a:ext cx="3178080" cy="9367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최초의 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IC (1958)</a:t>
            </a:r>
            <a:br>
              <a:rPr sz="24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잭 킬비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Texas Instrument 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ages.pennnet.com/articles/sst/thm/th_0702sstchange01.jpg"/>
          <p:cNvPicPr/>
          <p:nvPr/>
        </p:nvPicPr>
        <p:blipFill>
          <a:blip r:embed="rId1"/>
          <a:stretch/>
        </p:blipFill>
        <p:spPr>
          <a:xfrm>
            <a:off x="395280" y="836640"/>
            <a:ext cx="491652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720" y="4941360"/>
            <a:ext cx="3311280" cy="1008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최초의 상업용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IC (1961)</a:t>
            </a:r>
            <a:br>
              <a:rPr sz="22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로버트 노이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Fairchild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7280" y="4005000"/>
            <a:ext cx="281952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000"/>
                </a:solidFill>
                <a:latin typeface="맑은 고딕"/>
              </a:rPr>
              <a:t>지멘스의 증폭기 </a:t>
            </a:r>
            <a:r>
              <a:rPr b="1" lang="en-US" sz="2000" spc="-1" strike="noStrike">
                <a:solidFill>
                  <a:srgbClr val="ffc000"/>
                </a:solidFill>
                <a:latin typeface="맑은 고딕"/>
              </a:rPr>
              <a:t>IC (1965).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1.5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에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개의 트랜지스터와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개의 저항이 들어 있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3" name="Picture 2" descr="http://img.tfd.com/cde/_ICSIEM.GIF"/>
          <p:cNvPicPr/>
          <p:nvPr/>
        </p:nvPicPr>
        <p:blipFill>
          <a:blip r:embed="rId1"/>
          <a:stretch/>
        </p:blipFill>
        <p:spPr>
          <a:xfrm>
            <a:off x="468360" y="836640"/>
            <a:ext cx="516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어떻게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IC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를 만들 수 있을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순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0%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가까운 실리콘 판을 준비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트랜지스터나 다이오드 등을 만들고 싶은 부분만 제외하고 마스킹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불순물이 포함된 가스 주입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마스킹 작업에 사진 기술 사용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ffc000"/>
                </a:solidFill>
                <a:latin typeface="맑은 고딕"/>
              </a:rPr>
              <a:t>실리콘 표면에 사진의 감광액을 바른 후 그 위에 마스킹 패턴을 슬라이드처럼 투영하면 빛이 닿은 부분만 변질되어 그곳만 씻어내면 마스크 완성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0" lang="ko-KR" sz="2500" spc="-1" strike="noStrike">
                <a:solidFill>
                  <a:srgbClr val="ffc000"/>
                </a:solidFill>
                <a:latin typeface="맑은 고딕"/>
              </a:rPr>
              <a:t>즉 회로도가 만들어짐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retrothing.typepad.com/photos/uncategorized/intel4004.jp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712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73200" y="5373360"/>
            <a:ext cx="5770440" cy="1079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ntel 4004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마이크로프로세서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1)</a:t>
            </a:r>
            <a:br>
              <a:rPr sz="2500"/>
            </a:b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CPU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를 전체를 손톱 크기의 칩에 담았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Intel 4004 Microprocessor"/>
          <p:cNvPicPr/>
          <p:nvPr/>
        </p:nvPicPr>
        <p:blipFill>
          <a:blip r:embed="rId2"/>
          <a:stretch/>
        </p:blipFill>
        <p:spPr>
          <a:xfrm>
            <a:off x="0" y="0"/>
            <a:ext cx="91044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Intel 4004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의 용도는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63640" y="1628280"/>
            <a:ext cx="352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일본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Busicom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소형 전자계산기용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칩 디자이너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: Federico Faggin and Ted Hoff of Intel, and Masatoshi Shima of Busicom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그 외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14" name="Picture 5" descr="http://www.vintagecalculators.com/NCR18-36_1.jpg"/>
          <p:cNvPicPr/>
          <p:nvPr/>
        </p:nvPicPr>
        <p:blipFill>
          <a:blip r:embed="rId1"/>
          <a:stretch/>
        </p:blipFill>
        <p:spPr>
          <a:xfrm>
            <a:off x="468360" y="1628640"/>
            <a:ext cx="48243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ntel Ad, 1971"/>
          <p:cNvPicPr/>
          <p:nvPr/>
        </p:nvPicPr>
        <p:blipFill>
          <a:blip r:embed="rId1"/>
          <a:stretch/>
        </p:blipFill>
        <p:spPr>
          <a:xfrm>
            <a:off x="477720" y="303120"/>
            <a:ext cx="8197920" cy="478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084640"/>
            <a:ext cx="8229600" cy="1548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000"/>
                </a:solidFill>
                <a:latin typeface="맑은 고딕"/>
              </a:rPr>
              <a:t>Eletronic News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 1971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년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1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월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5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일자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Intel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의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4004 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칩 광고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 최초로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CPU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칩을 소비자에게 직접 판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다양한 엔지니어들이 구매해 다양한 전자기기를 만드는 데 마음대로 사용하길 기대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조용히 시작된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PC 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혁명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!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404640"/>
            <a:ext cx="917100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202440" cy="64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ENIA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프로그램을 교체하는 모습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Altair Ad"/>
          <p:cNvPicPr/>
          <p:nvPr/>
        </p:nvPicPr>
        <p:blipFill>
          <a:blip r:embed="rId1"/>
          <a:stretch/>
        </p:blipFill>
        <p:spPr>
          <a:xfrm>
            <a:off x="4356000" y="-243000"/>
            <a:ext cx="4351320" cy="5472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229600" cy="1628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최초의 상용 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PC: MITS Altair 8800 (1975)</a:t>
            </a:r>
            <a:br>
              <a:rPr sz="3000"/>
            </a:br>
            <a:r>
              <a:rPr b="0" i="1" lang="en-US" sz="2000" spc="-1" strike="noStrike">
                <a:solidFill>
                  <a:srgbClr val="ffffff"/>
                </a:solidFill>
                <a:latin typeface="맑은 고딕"/>
              </a:rPr>
              <a:t>Popular Electonics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등의 취미 잡지를 통해 조립식 우편 판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대당 약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$440 (Intel 8080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칩이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$360)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첫 달에만 수 천대 판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21" name="Picture 2" descr="File:Popular Electronics Cover Jan 1975.jpg"/>
          <p:cNvPicPr/>
          <p:nvPr/>
        </p:nvPicPr>
        <p:blipFill>
          <a:blip r:embed="rId2"/>
          <a:stretch/>
        </p:blipFill>
        <p:spPr>
          <a:xfrm>
            <a:off x="468360" y="0"/>
            <a:ext cx="3933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ile:Altair BASIC Paper Tape.jpg"/>
          <p:cNvPicPr/>
          <p:nvPr/>
        </p:nvPicPr>
        <p:blipFill>
          <a:blip r:embed="rId1"/>
          <a:stretch/>
        </p:blipFill>
        <p:spPr>
          <a:xfrm>
            <a:off x="468360" y="333360"/>
            <a:ext cx="8245440" cy="6191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7210440" cy="8506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Microsoft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첫 작품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Altair BASIC (1975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년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7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월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누가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Altair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를 구입했는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975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년 당시 이미 컴퓨터를 이용해 다양한 시도를 한 운동가 그룹과 아마추어 그룹 존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컴퓨터 메모리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Computer Memory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미니컴 단말기를 공공장소에 놓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주민이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주민들은 이를 이용해 동네 버스시간표나 책방과 도서관의 책을 검색하는 등 컴퓨터 활용 영역을 넓혀나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923920"/>
            <a:ext cx="6562800" cy="30258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컴퓨터는 대부분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인간을 위해서보다 인간을 대항해서 사용되었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인간의 자유보다 통제를 위해 사용되었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이제 이를 바꿔야 할 시간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우리는 이제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민중의 컴퓨터 회사가 필요하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&lt;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민중의 컴퓨터 회사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&gt; 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소식지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972.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0.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 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484360" y="0"/>
            <a:ext cx="46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16000" y="4437000"/>
            <a:ext cx="3970440" cy="1656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테드 넬슨의 책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4) </a:t>
            </a:r>
            <a:br>
              <a:rPr sz="2500"/>
            </a:b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the purpose of computers is human”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2" name="Picture 4" descr="Computer Lib"/>
          <p:cNvPicPr/>
          <p:nvPr/>
        </p:nvPicPr>
        <p:blipFill>
          <a:blip r:embed="rId1"/>
          <a:stretch/>
        </p:blipFill>
        <p:spPr>
          <a:xfrm>
            <a:off x="468360" y="620640"/>
            <a:ext cx="3936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omebrew 1975"/>
          <p:cNvPicPr/>
          <p:nvPr/>
        </p:nvPicPr>
        <p:blipFill>
          <a:blip r:embed="rId1"/>
          <a:stretch/>
        </p:blipFill>
        <p:spPr>
          <a:xfrm>
            <a:off x="468360" y="0"/>
            <a:ext cx="483372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4689360" cy="25192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홈브루 컴퓨터 클럽</a:t>
            </a:r>
            <a:br>
              <a:rPr sz="25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아마추어 컴퓨터 애호가들의 모임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컴퓨터를 직접 만들어 여러 가능성을 자유롭게 실험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최초의 신디사이저는 이 그룹의 멤버가 알테어를 통해 실험한 결과물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ffffff"/>
                </a:solidFill>
                <a:latin typeface="맑은 고딕"/>
              </a:rPr>
              <a:t>컴퓨터는 일종의 장난감</a:t>
            </a:r>
            <a:r>
              <a:rPr b="1" lang="en-US" sz="22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yummyhits.com/wp-content/uploads/2011/10/steve-jobs-Steve-wozni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9920" y="129960"/>
            <a:ext cx="3754440" cy="11379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스티브 잡스와 </a:t>
            </a:r>
            <a:br>
              <a:rPr sz="2500"/>
            </a:b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스티브 워즈니악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ile:Apple II.jpg"/>
          <p:cNvPicPr/>
          <p:nvPr/>
        </p:nvPicPr>
        <p:blipFill>
          <a:blip r:embed="rId1"/>
          <a:stretch/>
        </p:blipFill>
        <p:spPr>
          <a:xfrm>
            <a:off x="0" y="216000"/>
            <a:ext cx="9145440" cy="6092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6360" y="620280"/>
            <a:ext cx="356364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“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힘을 민중에게” 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스티브 잡스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&amp;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워즈니악의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1977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작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Apple II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의 모토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96000" y="3068280"/>
            <a:ext cx="3348000" cy="23050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맑은 고딕"/>
              </a:rPr>
              <a:t>매킨토시 </a:t>
            </a:r>
            <a:r>
              <a:rPr b="1" lang="en-US" sz="2800" spc="-1" strike="noStrike">
                <a:solidFill>
                  <a:srgbClr val="ffc000"/>
                </a:solidFill>
                <a:latin typeface="맑은 고딕"/>
              </a:rPr>
              <a:t>(1984)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획기적인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GUI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채택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(1979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작 제록스의 팔로알토 연구소에서 제작한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ALTO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에서 모티브를 얻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_x000b_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http://www.youtube.com/watch?v=OYecfV3ubP8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41" name="Picture 2" descr="Jobs"/>
          <p:cNvPicPr/>
          <p:nvPr/>
        </p:nvPicPr>
        <p:blipFill>
          <a:blip r:embed="rId3"/>
          <a:stretch/>
        </p:blipFill>
        <p:spPr>
          <a:xfrm>
            <a:off x="468360" y="692280"/>
            <a:ext cx="5245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000"/>
                </a:solidFill>
                <a:latin typeface="맑은 고딕"/>
              </a:rPr>
              <a:t>이렇게 거대했던 컴퓨터가 </a:t>
            </a:r>
            <a:br>
              <a:rPr sz="4000"/>
            </a:br>
            <a:r>
              <a:rPr b="0" lang="ko-KR" sz="4000" spc="-1" strike="noStrike">
                <a:solidFill>
                  <a:srgbClr val="ffc000"/>
                </a:solidFill>
                <a:latin typeface="맑은 고딕"/>
              </a:rPr>
              <a:t>어떻게 집안에 들어왔을까</a:t>
            </a:r>
            <a:r>
              <a:rPr b="0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postfiles12.naver.net/20111006_59/dancekiki_1317868534350STLPd_JPEG/1.jpg?type=w2"/>
          <p:cNvPicPr/>
          <p:nvPr/>
        </p:nvPicPr>
        <p:blipFill>
          <a:blip r:embed="rId1"/>
          <a:stretch/>
        </p:blipFill>
        <p:spPr>
          <a:xfrm>
            <a:off x="395280" y="476280"/>
            <a:ext cx="3718080" cy="3313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41623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대부분의 사용자가 베이직을 전혀 구입하지 않았다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.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어떤 전문가가 한푼도 받지 않고 일을 할 것이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3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년의 시간을 투자해서 프로그램을 하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오류를 찾아낼 것인가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.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컴퓨터 애호가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당신들이 하는 짓은 도적질이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400"/>
            </a:br>
            <a:br>
              <a:rPr sz="2400"/>
            </a:b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빌 게이츠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, &lt;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컴퓨터 애호가들에게 보내는 공개 서한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&gt;, 1976.</a:t>
            </a:r>
            <a:endParaRPr b="1" lang="en-US" sz="2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5516640"/>
            <a:ext cx="4716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리처드 스톨만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1985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GNU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선언문 발표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45" name="Picture 4" descr="http://upload.wikimedia.org/wikipedia/commons/thumb/c/cf/Portrait_-_Denmark_DTU_2007-3-31.jpg/225px-Portrait_-_Denmark_DTU_2007-3-31.jpg"/>
          <p:cNvPicPr/>
          <p:nvPr/>
        </p:nvPicPr>
        <p:blipFill>
          <a:blip r:embed="rId2"/>
          <a:stretch/>
        </p:blipFill>
        <p:spPr>
          <a:xfrm>
            <a:off x="4788000" y="4827600"/>
            <a:ext cx="194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95640" y="2781000"/>
            <a:ext cx="3097080" cy="2592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 PC (1981)</a:t>
            </a:r>
            <a:br>
              <a:rPr sz="2500"/>
            </a:b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ntel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마이크로프로세서 등을 이용 조립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OS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는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Microsoft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MS-DOS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채용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결국 시장은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BM ‘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호환기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’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즉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Win-tel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로 가득차게 됨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47" name="Picture 4" descr="First IBM PC"/>
          <p:cNvPicPr/>
          <p:nvPr/>
        </p:nvPicPr>
        <p:blipFill>
          <a:blip r:embed="rId1"/>
          <a:stretch/>
        </p:blipFill>
        <p:spPr>
          <a:xfrm>
            <a:off x="468360" y="333360"/>
            <a:ext cx="51832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가 집에 들어오기 위해서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컴퓨터가 작아지고 저렴해져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트랜지스터와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IC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그리고 마이크로프로세서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저성능도 괜찮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미니컴퓨터와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PC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반인도 다룰 수 있어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프로그램 내장 방식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루기 쉬운 운영체제 및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양한 응용프로그램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프로그램 제작용 언어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드웨어적인 혁신 외에도 수많은 아마추어들의 이상과 헌신이 중요한 역할을 담당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http://postfiles16.naver.net/20111006_95/faas7777_1317868428508Twnct_JPEG/Steve_Jobs1955-2011.jpg?type=w2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프로그램 내장 방식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중앙처리장치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CPU)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옆에 기억장치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memory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를 붙여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프로그램과 자료를 기억장치에 저장해 두었다가 프로그램을 불러 그 명령에 따라 자료를 차례로 불러내어 처리하는 방식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제 새로운 작업을 위해서는 전기 배선을 교체하는 대신 프로그램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소프트웨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만 바꿔 끼우면 됨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소프트웨어가 하드웨어로부터 완전히 분리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360" y="3645000"/>
            <a:ext cx="3384360" cy="27367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EDSAC (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영국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, 1949)</a:t>
            </a:r>
            <a:br>
              <a:rPr sz="2400"/>
            </a:b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윌키스가 제작한 최초의 프로그램 내장 방식 컴퓨터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폰 노이만의 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EDVAC 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기획 보고서에서 아이디어를 얻음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UNIVAC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과 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EDVAC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은 </a:t>
            </a:r>
            <a:br>
              <a:rPr sz="2000"/>
            </a:b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1951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년에 완성됨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0" name="Picture 2" descr="File:EDSAC (10).jpg"/>
          <p:cNvPicPr/>
          <p:nvPr/>
        </p:nvPicPr>
        <p:blipFill>
          <a:blip r:embed="rId1"/>
          <a:stretch/>
        </p:blipFill>
        <p:spPr>
          <a:xfrm>
            <a:off x="271440" y="260280"/>
            <a:ext cx="5021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저장은 어떻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64000" y="1600200"/>
          <a:ext cx="3322800" cy="34844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2170080"/>
              </a:tblGrid>
              <a:tr h="725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000"/>
                          </a:solidFill>
                          <a:latin typeface="맑은 고딕"/>
                          <a:ea typeface="맑은 고딕"/>
                        </a:rPr>
                        <a:t>SR </a:t>
                      </a:r>
                      <a:r>
                        <a:rPr b="1" lang="ko-KR" sz="2500" spc="-1" strike="noStrike">
                          <a:solidFill>
                            <a:srgbClr val="ffc000"/>
                          </a:solidFill>
                          <a:latin typeface="맑은 고딕"/>
                          <a:ea typeface="맑은 고딕"/>
                        </a:rPr>
                        <a:t>래치 회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작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Q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Q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 금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5" descr="File:R-S mk2.gif"/>
          <p:cNvPicPr/>
          <p:nvPr/>
        </p:nvPicPr>
        <p:blipFill>
          <a:blip r:embed="rId1"/>
          <a:stretch/>
        </p:blipFill>
        <p:spPr>
          <a:xfrm>
            <a:off x="468360" y="1628640"/>
            <a:ext cx="4762440" cy="3476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765080" y="5373720"/>
            <a:ext cx="56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여기에 클락을 달아 더 안정되게 작동하도록 만든 것이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Flip-flop</a:t>
            </a:r>
            <a:br>
              <a:rPr sz="2200"/>
            </a:br>
            <a:r>
              <a:rPr b="1" lang="ko-KR" sz="2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그것을 다시 여러 개 이어서 만든 것이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RAM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ile:UNIVAC-I-BRL61-0977.jpg"/>
          <p:cNvPicPr/>
          <p:nvPr/>
        </p:nvPicPr>
        <p:blipFill>
          <a:blip r:embed="rId2"/>
          <a:stretch/>
        </p:blipFill>
        <p:spPr>
          <a:xfrm>
            <a:off x="250920" y="1916280"/>
            <a:ext cx="8605800" cy="4646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4941360"/>
            <a:ext cx="6769080" cy="15829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ffc000"/>
                </a:solidFill>
                <a:latin typeface="맑은 고딕"/>
              </a:rPr>
              <a:t>최초의 상업용 컴퓨터 </a:t>
            </a:r>
            <a:r>
              <a:rPr b="1" lang="en-US" sz="2900" spc="-1" strike="noStrike">
                <a:solidFill>
                  <a:srgbClr val="ffc000"/>
                </a:solidFill>
                <a:latin typeface="맑은 고딕"/>
              </a:rPr>
              <a:t>UNIVAC (1951)</a:t>
            </a:r>
            <a:br>
              <a:rPr sz="29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인구조사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공군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육군지도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뉴욕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원자력에너지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해군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레밍턴랜드 판매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GE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메트로폴리탄 생명보험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프랭클린 생명보험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CBS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방송사 등에서 구매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8" name="Picture 5" descr="UNIVAC2"/>
          <p:cNvPicPr/>
          <p:nvPr/>
        </p:nvPicPr>
        <p:blipFill>
          <a:blip r:embed="rId3"/>
          <a:stretch/>
        </p:blipFill>
        <p:spPr>
          <a:xfrm>
            <a:off x="250920" y="0"/>
            <a:ext cx="49813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2920" y="4005000"/>
            <a:ext cx="3457800" cy="208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CBS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가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1952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년 대통령 선거 결과를 예측하는 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UNIVA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을 사용했다는 기사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70" name="Picture 2" descr="http://www.library.upenn.edu/exhibits/rbm/mauchly/img/11cronk.jpg"/>
          <p:cNvPicPr/>
          <p:nvPr/>
        </p:nvPicPr>
        <p:blipFill>
          <a:blip r:embed="rId1"/>
          <a:srcRect l="0" t="0" r="0" b="30222"/>
          <a:stretch/>
        </p:blipFill>
        <p:spPr>
          <a:xfrm>
            <a:off x="468360" y="333360"/>
            <a:ext cx="40384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11T22:13:36Z</dcterms:modified>
  <cp:revision>14</cp:revision>
  <dc:subject/>
  <dc:title>컴퓨터는 어떻게  덧셈, 뺄셈을 할까?</dc:title>
</cp:coreProperties>
</file>